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2C3-041E-425D-A2DE-DFE44C17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FEE-D759-4501-9BE7-2FCDFEB6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664-4F4E-43E7-8C1F-D7B3BE32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EDD-FCC2-4F76-819C-BCC16514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0A14-B54C-4553-9767-7878E43A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F4C4-FF2D-4BCD-82FE-80D3FB26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FDCE-2237-42A6-B1E2-ABF3AA6A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9931-A296-468E-AFE3-5AA46DCB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F0AA-4D9C-4FE0-A07F-C525C612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B697-AFD8-4B5E-A41C-2551C554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2E90-92BE-403A-8129-DD7E13C2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3DD-12CB-4581-B1CA-F9F857ED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4943-88D9-4A8D-9FBA-62AA87BA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BE12-617D-49E4-8342-8E2BA8C0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6AB7-D7FB-4CFC-839F-2E903792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3428-BEAE-41DC-945E-C1F649A8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53C5-ACAA-4C39-8CFC-2120FED1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234AF-CBB3-4AA0-BA07-0A71F1E1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B91D-287A-43A6-A6A7-77CE3B06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53426-2126-4D4B-8676-5C42E5F3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27E91-2229-482B-BCF4-16686CF9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CCBF8-0A11-47F2-A87F-06539B00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7B3-C2E1-4BE2-9299-40A78724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C498-0246-4F9A-B5E0-D2FF7D40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8C7E-4AC6-4382-98D7-7EBF6C38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E7307-18BA-444E-BACB-FF651B46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4ED03-2123-4AC4-A6D5-E9036CF6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EB2A-A941-49D9-8034-F5ADBCE6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5F2AC-1B50-4966-BE02-6794E8AC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4D643-BFF7-4365-A674-05283C8E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6F72E-663E-4862-BDDA-77844D23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14580-7914-488F-9ECB-4A951D52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C791B-9045-42E8-ACF5-9702CD69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D89-C50E-4BC0-9F4C-00E6C636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8C40C-6CC7-41DE-B7D3-CB6257F2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40CEF-2837-4035-9220-7B34545D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FE197-D5A7-4CA7-911D-8423A93D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4D669-58EA-42B0-9B4C-8E61580C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4CB39-D034-4F51-A0B1-39B4326E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3F8B7-67C4-457A-B589-156D6847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DAB89-7ECB-415F-B650-746A99E0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FDD10-300A-4655-A1B0-7043ECB4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CD4CF-17D2-43EC-835D-28FD427D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29BD4-3669-4394-9A71-8E262426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149-B726-4228-A899-E1DF6633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823D4-E56C-4260-A88F-E915B8C7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748B2-8090-4EDB-95E2-6C31B12C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E01D4-F0C2-4C82-BE22-9098DA5F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06416-0543-4B31-9856-EF119D5D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EE6C0-775F-4627-A83F-77735B4B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CBAD1-EB81-463A-813F-E6C5F892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35398-8AC1-41CA-8D51-79E17D15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5BE07-2513-43FD-8BB6-7D9FADDC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6D7D0-6C8F-4785-8D6C-26746737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4844B-6554-4BA0-B670-E27C0D0F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2BC-9336-4549-8FDA-9099C728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16ED6-AD79-4E14-AF23-58B68F54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020-EBBF-4B3E-BF1D-E3AC7AFC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881-AC68-425E-A966-902EF4C4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A55-306C-4140-B5D3-10300A8B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E480C-62FF-47B5-B582-B7C58648A949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9BC9F-B721-4664-BBFA-EFB0817807DD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86C32-936C-4107-92AF-48A41BD7BF02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57037-4123-40AF-9DEC-C6F3A5DD5065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FA142-DF18-4E91-B40F-43478AEA09A0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49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62626"/>
                </a:solidFill>
                <a:latin typeface="Constantia"/>
              </a:rPr>
              <a:t>ГЛАГОЛ </a:t>
            </a:r>
            <a:br>
              <a:rPr sz="8000"/>
            </a:br>
            <a:r>
              <a:rPr b="0" lang="ru-RU" sz="6000" spc="-1" strike="noStrike">
                <a:solidFill>
                  <a:srgbClr val="262626"/>
                </a:solidFill>
                <a:latin typeface="Constantia"/>
              </a:rPr>
              <a:t>КАК ЧАСТЬ РЕЧИ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68360" y="2852640"/>
            <a:ext cx="7989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Спряжение глагол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197000"/>
          <a:ext cx="8229600" cy="5433840"/>
        </p:xfrm>
        <a:graphic>
          <a:graphicData uri="http://schemas.openxmlformats.org/drawingml/2006/table">
            <a:tbl>
              <a:tblPr/>
              <a:tblGrid>
                <a:gridCol w="1400040"/>
                <a:gridCol w="1643040"/>
                <a:gridCol w="1643400"/>
                <a:gridCol w="1896840"/>
                <a:gridCol w="1646280"/>
              </a:tblGrid>
              <a:tr h="91440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gridSpan="2"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д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д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333036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, -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т,  -ю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, -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ат, -я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Спряжение глагол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1. Если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кончание глагола ударное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, то спряжение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пределяется по окончанию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2. Если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кончание безударное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, то спряжение определяется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по инфинитиву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Ко </a:t>
            </a:r>
            <a:r>
              <a:rPr b="1" lang="en-US" sz="4000" spc="-1" strike="noStrike">
                <a:solidFill>
                  <a:srgbClr val="262626"/>
                </a:solidFill>
                <a:latin typeface="Century Gothic"/>
              </a:rPr>
              <a:t>II</a:t>
            </a: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 спряжению глагола относятся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640" y="2014560"/>
            <a:ext cx="80647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все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ы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на –ить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кроме брить, стели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7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ов на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–еть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видеть, обидеть, смотреть, ненавидеть, зависеть, терпеть, верте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4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а на  -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а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гнать, держать, слышать, дышать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Все остальные глаголы относятся к 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I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спряжению</a:t>
            </a:r>
            <a:r>
              <a:rPr b="0" lang="ru-RU" sz="22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Разноспрягаемые глаголы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хоте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бежа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чти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и производные от них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Постоянные признаки глагол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вид глагола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возвратность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переходность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спряжение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Непостоянные признаки глагол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наклонение,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время (если есть)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лицо (если есть)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число,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род (если есть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одержимое 2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2296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62626"/>
                </a:solidFill>
                <a:latin typeface="Century Gothic"/>
              </a:rPr>
              <a:t>Инфинитив</a:t>
            </a:r>
            <a:br>
              <a:rPr sz="3600"/>
            </a:b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отвечает на вопросы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что делать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     </a:t>
            </a: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что сделать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Показатели инфинитив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Суффиксы  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ть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ти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чь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сти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Инфинитив - это </a:t>
            </a:r>
            <a:br>
              <a:rPr sz="3600"/>
            </a:br>
            <a:r>
              <a:rPr b="1" lang="ru-RU" sz="3600" spc="-1" strike="noStrike" u="sng">
                <a:solidFill>
                  <a:srgbClr val="00b050"/>
                </a:solidFill>
                <a:uFillTx/>
                <a:latin typeface="Century Gothic"/>
              </a:rPr>
              <a:t>неизменяемая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форма глагола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,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этому в предложении может бы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подлежащи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Century Gothic"/>
              </a:rPr>
              <a:t>Читать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– всегда полезно.),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о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Его желание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труд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мне всегда нравилось.),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дополнение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Я посоветовал ему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обрат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к учителю), входить в состав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глагольного сказуемого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Я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решил продолжить уч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) и т.д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ля</a:t>
            </a: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 инфинитив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характерны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категория вида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делать? – несовершенный вид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елать –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вершенный вид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2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переходность/непереходнос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(сказать (что?) правду – переходный, сказаться больным – непереходный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возвратность/невозвратность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объясниться – объяснить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4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залог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читать –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действительный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, читаться –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страдательный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Категория </a:t>
            </a:r>
            <a:r>
              <a:rPr b="1" lang="ru-RU" sz="4400" spc="-1" strike="noStrike">
                <a:solidFill>
                  <a:srgbClr val="00b050"/>
                </a:solidFill>
                <a:latin typeface="Century Gothic"/>
              </a:rPr>
              <a:t>наклонения</a:t>
            </a: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 глагола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Наклонение глагол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– это грамматическая категория, которая выражает отношение действия к реальност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83c6"/>
                </a:solidFill>
                <a:latin typeface="Century Gothic"/>
              </a:rPr>
              <a:t>Изъяви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83c6"/>
                </a:solidFill>
                <a:latin typeface="Century Gothic"/>
              </a:rPr>
              <a:t>Повели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83c6"/>
                </a:solidFill>
                <a:latin typeface="Century Gothic"/>
              </a:rPr>
              <a:t>Сослага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ru-RU" sz="2800" spc="-1" strike="noStrike">
                <a:solidFill>
                  <a:srgbClr val="2683c6"/>
                </a:solidFill>
                <a:latin typeface="Century Gothic"/>
              </a:rPr>
              <a:t>услов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)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Категория времени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3600" spc="-1" strike="noStrike">
                <a:solidFill>
                  <a:srgbClr val="00b050"/>
                </a:solidFill>
                <a:latin typeface="Century Gothic"/>
              </a:rPr>
              <a:t>Изменени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глагола </a:t>
            </a:r>
            <a:r>
              <a:rPr b="1" lang="ru-RU" sz="3600" spc="-1" strike="noStrike">
                <a:solidFill>
                  <a:srgbClr val="00b050"/>
                </a:solidFill>
                <a:latin typeface="Century Gothic"/>
              </a:rPr>
              <a:t>по временам свойственно изъявительному 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наклонению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настоящее время;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прошедшее время;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будущее время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одержимое 3" descr=""/>
          <p:cNvPicPr/>
          <p:nvPr/>
        </p:nvPicPr>
        <p:blipFill>
          <a:blip r:embed="rId1"/>
          <a:stretch/>
        </p:blipFill>
        <p:spPr>
          <a:xfrm>
            <a:off x="384120" y="609480"/>
            <a:ext cx="8302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5:31:51Z</dcterms:created>
  <dc:creator>Людмила</dc:creator>
  <dc:description/>
  <dc:language>en-US</dc:language>
  <cp:lastModifiedBy>Людмила</cp:lastModifiedBy>
  <dcterms:modified xsi:type="dcterms:W3CDTF">2018-03-11T22:16:55Z</dcterms:modified>
  <cp:revision>23</cp:revision>
  <dc:subject/>
  <dc:title>Глагол как часть речи</dc:title>
</cp:coreProperties>
</file>